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14512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5610578-C38B-496C-8F40-1909050BAA6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023BAA-B79B-45B6-898C-DC04113C78C5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8CFE3B-5217-4D63-BBB7-6E89F6C3405C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54A07BA-7F93-4116-BD89-9F4A1DFF5F00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88E8F20-998C-420F-AA56-1F132A4A63B6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14512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32120" y="51912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5228-E84E-4114-8317-01275B73D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2406-BD7D-43E0-A11B-CB4DE0CE2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4FBE-6C28-4D78-BFD1-FCA08B602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2BC6-DCA7-4E40-ABE4-70826CACB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AC574-D644-4E24-AB34-B1783D2E90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B7F9F-E145-4112-9AF5-2635F936A5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203A7-F457-4063-AD77-AF31CE7EAD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A6352-1066-4F16-8580-3354DE2EC9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95A62-02DC-4B02-9352-1F8A227E2C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AE972-96B1-438A-B7D7-B95D70BC3B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9FA8C-8190-40E5-981E-340B63161B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347E-2A09-4FE2-B68F-8015C9073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BB056-1FB9-45A5-825F-A9B0BFEA18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60D9-22F9-40BF-8A45-3EE1D18EDF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B0572-597B-4678-8651-3C0F0F5CF1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7E81C-05FD-457C-9280-69033D2148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13062-5DF1-4DAA-AB17-AE6579B67C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2EB4-1B44-4EA5-961E-9614E8D8E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B7B6-663C-4F74-AAA1-80B845896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5088-9B9A-44EB-A1E9-FAE922893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ED8F-A9F9-492B-AAE7-6D90BE237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7D5F-4EF5-4C37-8FAF-EDB7A0B04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A5B1-A1A2-49D0-BB24-8E1A5EF7D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8098-13AD-45AA-B0EF-E6BAFADE3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6085848-AF2E-42E5-995F-9AD2E0289B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5E3909C-A959-4DC3-A083-3FBDA74BDD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 System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56C2AD0-2BE5-4681-AE80-4424F6B7D4F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equi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by Courts of Chancer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riginally on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to counter rigid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later merged, but bodies of law remained separ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6D5C807-8C33-4E1E-9800-5CBB869284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created by legislative bod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” (i.e., legislation overrides common law and law of equity) 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summarize or modify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government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954E73C8-296B-4098-AB65-4C7EAD3B12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2916C3B-B174-42DE-B7CA-73A6FDB9F8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678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creat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tish North America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867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nherited certain conventions or traditions from Britai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s established in the Magna Carta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7EFEF55-D7C8-4A84-87A0-52B6B41AD99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A Act now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867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s 91 and 92 divide powers between federal and provincial governm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nciple of paramountcy applies in cases of conflict between federal and provincial law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813B939-2ED4-4B61-9D2D-286B4DFB986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d ties with British Govern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d government enactments having constitutional statu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amending formula for constitutional chang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A29F178-3FBC-4051-A3D0-1464A660935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individuals from infringement on their rights by governments or their agen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limitations on Charter rights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1 – reasonable exceptions to Charter rights and freedoms allow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3 – legislatures can pass acts that infringe on rights “notwithstanding” the Chart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2 – Charter applies only to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7232BE6-BECE-4699-8BDF-5D793AAEC8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urts: Cour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B89DF4B-36A0-4A6A-9C38-D6E9675FD6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782720"/>
            <a:ext cx="6400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Civil 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vil trial - action for compens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dings -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e char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docum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witness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into cour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action lawsui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57800" y="2666880"/>
          <a:ext cx="3048120" cy="3048120"/>
        </p:xfrm>
        <a:graphic>
          <a:graphicData uri="http://schemas.openxmlformats.org/drawingml/2006/table">
            <a:tbl>
              <a:tblPr/>
              <a:tblGrid>
                <a:gridCol w="1341360"/>
                <a:gridCol w="17067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tiff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ndant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 of Summons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eara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Defe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er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4997C2B-AE5F-46BF-AAD7-B783C6CDC2F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roof rests with plaintiff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of probabilit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amination of witne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examination by defense lawy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A2B4115-232E-4300-9926-8DDC1D9F4C2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fine what law 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Identify the sources of Canadian laws and distinguish their compon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scribe the structure of the courts in Canada and illustrate the litigation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Outline the processes of trial and judgemen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7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E286A35-708F-40A2-BD91-8AFCB7147C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ant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ings forward witnesses and evid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’s lawyer gets to cross-examin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ies to put enough doubt into the plaintiff’s case so plaintiff cannot prove his/her cas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7581D89-74AF-4078-9253-D1D1C37F47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dge determines the law and instructs the ju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ry decides on the fac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f judge alone, he/she determines both facts and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2E5AE03-F585-46AD-9D57-EBFD0EA877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s (monetary compensation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– non-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– 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tive – to punish the wrongdo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051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3EB15FA-AF87-4459-9490-9C381A3706E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where damages are not appropria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nction – stop ord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performance – fulfill the terms of an agree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ing – pay over profi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A60EF49-54C5-4DAD-A1E7-F97412C6BF5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must enforce judg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trial hearing to identify asse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zure of proper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ishment of w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mpt of court (related to order of specific conduct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B59AF44-DE0A-4A6B-ABDF-5909B42B049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for resolving disputes outside of the cour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tho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79938F7-EDBC-490C-839E-990B73C6C45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2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discuss the problem with each other in order to find a 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requires cooperation and compromi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conducted through representativ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ay enhance relationship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ment may not be legally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EE76FBA-F681-4912-81F6-ED71D066E09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 outsider helps parties settle the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facilitated by mediato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common grou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s concess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 does not make decis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required before court will hear ca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 may affirm mediated re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E8BD7D5-36F2-4CFB-9AE4-17EAFD9BB3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agree on an independent third party (or panel of three) to make a decision that will be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required in contract; mandated in collective bargain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ors are usually specialists in the matter under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cannot be appealed although procedure may be reviewed by the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EE6703E-1E99-4354-AAAC-6A72E1790C2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es maintain control of the 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utants determine and schedule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sts associated with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s remain priv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good wil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hieve a win-win re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158DB08-D730-49A8-887A-EE42C4694EE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lain the function and use of alternative methods for resolving disput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e administrative law and explain when and how it is us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cribe the aspects of criminal law that should be of concern to a business pers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722A981-88AE-4BF7-A048-653D2FE888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have more power to extract inform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do not follow preced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may not be enforceabl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ppropriate when power imbalance exis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ublic record of dispute or decis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F655AFA-792F-4541-8A8A-A27BEFA4B6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bodies make decisions with respect to statutes or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decisions must be within jurisdiction and comply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867)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rinciples of procedural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 may review decision process and decision to determine if appropri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A8E228B-B7A6-40F1-B0D7-BD0BB8001B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itive clauses may protect tribunal decisions from judicial revie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antages of tribunals (compared to courts)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 experts in field under dispu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er, more cost-effective decision-making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3EF29B2-2F83-4D58-97A3-B7DD261505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 law – individual sues another for compensation (or other remedy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law – state prosecutes accused to punish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federal government has the power to make criminal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ncial governments have the power to create and enforce statutes (similar to criminal law in terms of penalties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3A1389C-73E7-4015-801B-9387A63BD2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den of proof on prosecuto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prove beyond a reasonable doub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wrongful conduct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intention to commit the ac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liability offenc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only need to show offence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efence is due dilig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 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B2D3C85-112F-4349-95AB-7B795D17FF8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to arrest held by police and private citize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al officials issue search warrants, arrest warrants, and summons to appea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 of crim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conviction - mino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table offence - more serious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4399045-A6DC-42EB-9BBA-470D497417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– exchange of information and negoti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table offence – more involved and length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 bargaining – pleading to lesse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atter proceeds to trial: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cutor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then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judge or ju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 – fine/imprison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1A2CC23-E648-4D51-B6AA-D19DE73FA96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is the body of rules that can be enforced by the courts or by other government agenc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does not define ethical behaviou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919D5C4-2D41-4F63-8C61-624E6D9C3A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v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determining behaviou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dura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w the legal process work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CA42CBD-A7A2-467C-9D4D-F3A7ACA225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our relationship with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or Civi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personal, social, and business relationship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BF47B5D-289D-4CCE-BB41-40F2B1B3FB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ed body of rul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ed with the Romans; later modified by Napole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most countr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bec’s legal system is based on the French Civil Cod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Code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0D8B71E-A609-4A40-B617-1F0CA912B4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1069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 used in Great Britain and the Commonwealth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opted by Canada’s English-speaking provinces and the territories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-mad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in the cour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05020E0-337B-4914-B0DB-28132AAEDB6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follow precedent case if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higher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ame jurisdic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imilar fac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distinguish cases on the fac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E75C27F-72B4-4D50-A746-9845EE86CD4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5:58:43Z</dcterms:modified>
  <cp:revision>191</cp:revision>
  <dc:subject/>
  <dc:title>Chapter One</dc:title>
</cp:coreProperties>
</file>